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48250" cy="20667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474-6F45-4A23-9ECC-7C0FAF83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2740500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080" y="11946600"/>
            <a:ext cx="2740500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871-0F9C-4435-8E5A-076818F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08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424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B1C-A8D1-4515-BBB9-4F653F2D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88120" y="482292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053800" y="482292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080" y="1194660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88120" y="1194660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053800" y="1194660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B92-BCCA-4C4A-B6BF-906F5A1C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080" y="4822920"/>
            <a:ext cx="27405000" cy="136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7AA-4D7A-48DE-B449-2A7112E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2740500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781-0EDE-475B-B26D-53921E78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4CB-22D8-441D-B714-42C3964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E89-64D6-4441-928F-4E89D8A5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080" y="826920"/>
            <a:ext cx="27405000" cy="159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51"/>
              </a:spcBef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398-D46C-46CE-834D-842E67B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08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1C4-766C-4861-A3AA-A2A596B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424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587-72A3-444D-BCDA-84AD656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080" y="11946600"/>
            <a:ext cx="2740500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742-F1B5-4EBE-B0DE-E97AA1E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080" y="4822920"/>
            <a:ext cx="2740500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marL="1093680" indent="-10936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1" marL="2371680" indent="-911160">
              <a:spcBef>
                <a:spcPts val="2551"/>
              </a:spcBef>
              <a:buClr>
                <a:srgbClr val="000000"/>
              </a:buClr>
              <a:buFont typeface="Arial"/>
              <a:buChar char="–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2" marL="3649680" indent="-72864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3" marL="5110200" indent="-728640">
              <a:spcBef>
                <a:spcPts val="2551"/>
              </a:spcBef>
              <a:buClr>
                <a:srgbClr val="000000"/>
              </a:buClr>
              <a:buFont typeface="Arial"/>
              <a:buChar char="–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4" marL="6570720" indent="-728640">
              <a:spcBef>
                <a:spcPts val="2551"/>
              </a:spcBef>
              <a:buClr>
                <a:srgbClr val="000000"/>
              </a:buClr>
              <a:buFont typeface="Arial"/>
              <a:buChar char="»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5" marL="6570720" indent="-728640">
              <a:spcBef>
                <a:spcPts val="2551"/>
              </a:spcBef>
              <a:buClr>
                <a:srgbClr val="000000"/>
              </a:buClr>
              <a:buFont typeface="Arial"/>
              <a:buChar char="»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6" marL="6570720" indent="-728640">
              <a:spcBef>
                <a:spcPts val="2551"/>
              </a:spcBef>
              <a:buClr>
                <a:srgbClr val="000000"/>
              </a:buClr>
              <a:buFont typeface="Arial"/>
              <a:buChar char="»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440" y="19154880"/>
            <a:ext cx="7105680" cy="110016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lstStyle>
            <a:lvl1pPr indent="0">
              <a:buNone/>
              <a:tabLst>
                <a:tab algn="l" pos="0"/>
                <a:tab algn="l" pos="2919240"/>
                <a:tab algn="l" pos="5838840"/>
                <a:tab algn="l" pos="8758080"/>
              </a:tabLst>
              <a:defRPr b="0" lang="en-US" sz="3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r>
              <a:rPr b="0" lang="en-US" sz="3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04000" y="19154880"/>
            <a:ext cx="9641160" cy="110016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21760" y="19154880"/>
            <a:ext cx="7105680" cy="110016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lstStyle>
            <a:lvl1pPr indent="0" algn="r">
              <a:buNone/>
              <a:tabLst>
                <a:tab algn="l" pos="0"/>
                <a:tab algn="l" pos="2919240"/>
                <a:tab algn="l" pos="5838840"/>
                <a:tab algn="l" pos="8758080"/>
              </a:tabLst>
              <a:defRPr b="0" lang="en-GB" sz="3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fld id="{E3B42F06-6493-43BE-A195-5331E7C401AA}" type="slidenum">
              <a:rPr b="0" lang="en-GB" sz="3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520120" y="2179800"/>
            <a:ext cx="12877920" cy="10667880"/>
          </a:xfrm>
          <a:prstGeom prst="rect">
            <a:avLst/>
          </a:prstGeom>
          <a:ln w="0">
            <a:noFill/>
          </a:ln>
        </p:spPr>
      </p:pic>
      <p:pic>
        <p:nvPicPr>
          <p:cNvPr id="42" name="Diagram 4" descr=""/>
          <p:cNvPicPr/>
          <p:nvPr/>
        </p:nvPicPr>
        <p:blipFill>
          <a:blip r:embed="rId2"/>
          <a:stretch/>
        </p:blipFill>
        <p:spPr>
          <a:xfrm>
            <a:off x="590400" y="2120760"/>
            <a:ext cx="7553520" cy="10796760"/>
          </a:xfrm>
          <a:prstGeom prst="rect">
            <a:avLst/>
          </a:prstGeom>
          <a:ln w="0">
            <a:noFill/>
          </a:ln>
        </p:spPr>
      </p:pic>
      <p:pic>
        <p:nvPicPr>
          <p:cNvPr id="43" name="Diagram 5" descr=""/>
          <p:cNvPicPr/>
          <p:nvPr/>
        </p:nvPicPr>
        <p:blipFill>
          <a:blip r:embed="rId3"/>
          <a:stretch/>
        </p:blipFill>
        <p:spPr>
          <a:xfrm>
            <a:off x="21720240" y="2103480"/>
            <a:ext cx="8143920" cy="10869480"/>
          </a:xfrm>
          <a:prstGeom prst="rect">
            <a:avLst/>
          </a:prstGeom>
          <a:ln w="0">
            <a:noFill/>
          </a:ln>
        </p:spPr>
      </p:pic>
      <p:pic>
        <p:nvPicPr>
          <p:cNvPr id="44" name="Diagram 6" descr=""/>
          <p:cNvPicPr/>
          <p:nvPr/>
        </p:nvPicPr>
        <p:blipFill>
          <a:blip r:embed="rId4"/>
          <a:stretch/>
        </p:blipFill>
        <p:spPr>
          <a:xfrm>
            <a:off x="585720" y="13142880"/>
            <a:ext cx="18799200" cy="7527960"/>
          </a:xfrm>
          <a:prstGeom prst="rect">
            <a:avLst/>
          </a:prstGeom>
          <a:ln w="0">
            <a:noFill/>
          </a:ln>
        </p:spPr>
      </p:pic>
      <p:pic>
        <p:nvPicPr>
          <p:cNvPr id="45" name="Diagram 7" descr=""/>
          <p:cNvPicPr/>
          <p:nvPr/>
        </p:nvPicPr>
        <p:blipFill>
          <a:blip r:embed="rId5"/>
          <a:stretch/>
        </p:blipFill>
        <p:spPr>
          <a:xfrm>
            <a:off x="19623240" y="13130280"/>
            <a:ext cx="10009080" cy="76089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6"/>
          <a:stretch/>
        </p:blipFill>
        <p:spPr>
          <a:xfrm>
            <a:off x="1182600" y="353880"/>
            <a:ext cx="28554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5:27:56Z</dcterms:created>
  <dc:creator>Ng</dc:creator>
  <dc:description/>
  <dc:language>en-US</dc:language>
  <cp:lastModifiedBy>Ng</cp:lastModifiedBy>
  <dcterms:modified xsi:type="dcterms:W3CDTF">2009-06-07T12:05:10Z</dcterms:modified>
  <cp:revision>4</cp:revision>
  <dc:subject/>
  <dc:title>Slide 1</dc:title>
</cp:coreProperties>
</file>